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8.jpeg" ContentType="image/jpeg"/>
  <Override PartName="/ppt/media/image1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5083-F60D-4085-B466-F7CECCA82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12C5-712A-4811-A1A2-7501FC0F46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797C4-0DA6-4BA9-A2C3-9B157227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AE75D-7810-48A2-978A-C0A6F7FF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D5C1E-5F96-4C12-BDA0-81DC96DC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99B94-C309-46CD-8B5A-23B9D9A88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9C24-ECDE-40E8-9D0A-CCDC289EB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6676-2363-4EB3-9615-D7A93C8A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DC89-93A2-4F77-8864-AAC917CF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19D4-10BB-45AB-BF8B-BE8B1B0C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338E-2BF1-43AE-8302-A9E906C9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96B0-9E1E-480D-B562-D2B2ECF3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7E37-F904-4D82-9A57-65AEEE5A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37F6D-E7F4-47F8-81B5-2AF52652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6030-5662-40DF-A0D8-DA827013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0C4E-837A-47E8-BEE9-8BC41082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EE0A-0C04-47F7-BC50-3ED716AF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35EB-5A42-4517-9F6B-F0153E451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CF72-7438-440F-99C3-A67B1B22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8BC01-0D00-4EB3-8F04-79BB2FE2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B529D-0E96-4A5E-85BB-F4791BB4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6401D-4F01-4C86-8D4A-564A1AA2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BD7CE-C8C5-439B-98BC-A644354B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70B22-115C-465A-9E94-66876E45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7D914-2B4F-412C-B910-5DE0D852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EC076-0C36-41AB-AB30-56E96E26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A45B-BEC9-4DEE-A113-75AB50546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876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D971-50C8-4F23-803F-427860A334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MacArthur_Manila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2/March_of_Death_from_Bataan_to_the_prison_camp_-_Dead_soldiers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Times New Roman"/>
              </a:rPr>
              <a:t>Lesson 2:  </a:t>
            </a:r>
            <a:br>
              <a:rPr sz="5400"/>
            </a:br>
            <a:r>
              <a:rPr b="0" lang="en-US" sz="5400" spc="-1" strike="noStrike">
                <a:solidFill>
                  <a:srgbClr val="dfdef6"/>
                </a:solidFill>
                <a:latin typeface="Times New Roman"/>
              </a:rPr>
              <a:t>The War in the Pacific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of the fighting in the Pacific was done over wat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3" descr=""/>
          <p:cNvPicPr/>
          <p:nvPr/>
        </p:nvPicPr>
        <p:blipFill>
          <a:blip r:embed="rId2"/>
          <a:stretch/>
        </p:blipFill>
        <p:spPr>
          <a:xfrm>
            <a:off x="2151000" y="0"/>
            <a:ext cx="484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. </a:t>
            </a: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Battle of Midway:</a:t>
            </a:r>
            <a:br>
              <a:rPr sz="3600"/>
            </a:b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“payback” for P.H.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2019240"/>
            <a:ext cx="403848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 by Adm. Nimit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pan to attack; 110 ship; goal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stroy US fl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from Midway t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waii to ma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ies outnumber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/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ies – massive air attack; Japan retre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apa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ev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reco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110160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Picture 7" descr="midway4.jpg (18990 bytes)"/>
          <p:cNvPicPr/>
          <p:nvPr/>
        </p:nvPicPr>
        <p:blipFill>
          <a:blip r:embed="rId1"/>
          <a:stretch/>
        </p:blipFill>
        <p:spPr>
          <a:xfrm>
            <a:off x="4495680" y="3733920"/>
            <a:ext cx="4648320" cy="261144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8"/>
          <p:cNvSpPr/>
          <p:nvPr/>
        </p:nvSpPr>
        <p:spPr>
          <a:xfrm>
            <a:off x="149400" y="252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Picture 10" descr="wpe6.jpg (51006 bytes)"/>
          <p:cNvPicPr/>
          <p:nvPr/>
        </p:nvPicPr>
        <p:blipFill>
          <a:blip r:embed="rId2"/>
          <a:stretch/>
        </p:blipFill>
        <p:spPr>
          <a:xfrm>
            <a:off x="4800600" y="685800"/>
            <a:ext cx="40989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A065-BB04-4A69-8F4E-9E0A2A6CF883}" type="slidenum">
              <a:rPr b="0" lang="en-US" sz="2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.  Island Hopp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6553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to take ov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pecific island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Pacific in order to establish bases as close as possible to Jap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llow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airfields, docks, and supp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4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. MacArthur return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2 yrs. Later!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e to victory in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attle of Leyte Gulf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hilippin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st naval battle in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mikazes implemented by Japan (15,000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7475-A858-45DA-A66F-3472B1F57FD1}" type="slidenum">
              <a:rPr b="0" lang="en-US" sz="2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amikaz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4" descr="Image:USS Bunker Hill hit by two Kamikazes.jpg"/>
          <p:cNvPicPr/>
          <p:nvPr/>
        </p:nvPicPr>
        <p:blipFill>
          <a:blip r:embed="rId1"/>
          <a:stretch/>
        </p:blipFill>
        <p:spPr>
          <a:xfrm>
            <a:off x="304920" y="800280"/>
            <a:ext cx="876276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E344-28A4-4B56-850C-C6EE4617674B}" type="slidenum">
              <a:rPr b="0" lang="en-US" sz="2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7" name="Picture 4" descr="Image:Kamikaze zero.jpg"/>
          <p:cNvPicPr/>
          <p:nvPr/>
        </p:nvPicPr>
        <p:blipFill>
          <a:blip r:embed="rId1"/>
          <a:stretch/>
        </p:blipFill>
        <p:spPr>
          <a:xfrm>
            <a:off x="380880" y="27000"/>
            <a:ext cx="838224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3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laces of Conflic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Picture 7" descr="US_landings"/>
          <p:cNvPicPr/>
          <p:nvPr/>
        </p:nvPicPr>
        <p:blipFill>
          <a:blip r:embed="rId1"/>
          <a:stretch/>
        </p:blipFill>
        <p:spPr>
          <a:xfrm>
            <a:off x="228600" y="887400"/>
            <a:ext cx="876312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buClr>
                <a:srgbClr val="dfdef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Allies Stem the Japanese Tide</a:t>
            </a:r>
            <a:br>
              <a:rPr sz="3600"/>
            </a:b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 Japan in the Philipp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cArth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412920">
              <a:spcBef>
                <a:spcPts val="499"/>
              </a:spcBef>
              <a:buClr>
                <a:srgbClr val="9999ff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diers in Philippines getting killed/woun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412920">
              <a:spcBef>
                <a:spcPts val="499"/>
              </a:spcBef>
              <a:buClr>
                <a:srgbClr val="9999ff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 abandons soldiers/promises to 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ataan M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8,000 POW/10,000 d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05520" y="837720"/>
            <a:ext cx="403848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Picture 8" descr="150px-MacArthur_Manil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1219320"/>
            <a:ext cx="2994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ataan March</a:t>
            </a:r>
            <a:br>
              <a:rPr sz="4400"/>
            </a:b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pril 9, 1942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5" descr="Bataan_Death_March_route"/>
          <p:cNvPicPr/>
          <p:nvPr/>
        </p:nvPicPr>
        <p:blipFill>
          <a:blip r:embed="rId1"/>
          <a:stretch/>
        </p:blipFill>
        <p:spPr>
          <a:xfrm>
            <a:off x="2209680" y="1473120"/>
            <a:ext cx="484848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ataan Death Marc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Picture 5" descr="File:March of Death from Bataan to the prison camp - Dead soldier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5" descr="File:NA 127-N-114541.jpg"/>
          <p:cNvPicPr/>
          <p:nvPr/>
        </p:nvPicPr>
        <p:blipFill>
          <a:blip r:embed="rId1"/>
          <a:stretch/>
        </p:blipFill>
        <p:spPr>
          <a:xfrm>
            <a:off x="228600" y="-14400"/>
            <a:ext cx="861048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5" descr="Anti-Japan2"/>
          <p:cNvPicPr/>
          <p:nvPr/>
        </p:nvPicPr>
        <p:blipFill>
          <a:blip r:embed="rId1"/>
          <a:stretch/>
        </p:blipFill>
        <p:spPr>
          <a:xfrm>
            <a:off x="2001960" y="0"/>
            <a:ext cx="550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80880" y="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35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Battle at Coral Sea – New Naval warf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fighting done b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rrier-bas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irpla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pan codes deciphered = US better prepa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fter battle, Alllies able to turn back Japan; invasion of Australia stopped (cut US suppl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5" descr="Image:Principe-de-Asturias Wasp Forrestal Invincible 1991 DN-ST-92-01129s.jpg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UPER</dc:creator>
  <dc:description/>
  <dc:language>en-US</dc:language>
  <cp:lastModifiedBy>SUPER</cp:lastModifiedBy>
  <dcterms:modified xsi:type="dcterms:W3CDTF">2018-01-09T22:36:19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